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365-E09F-4E75-82D7-F475D611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7DC-0EC0-42B8-9037-2D4B57BB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186AE-A3A7-4B7C-8F19-5AFD6B8A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96646-035F-4D3B-AA0F-0E0D0363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B9042-8B6F-4912-806D-257BB496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80CB0-5771-4BA2-9ADD-43F7664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EE201-2D4C-41E4-BCF9-2482BBE3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34E91-018D-428E-93C8-0A284E4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0C744-27D3-4F46-ADA2-CA402531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6F028-3CCB-442F-AFD4-AAF3E3C6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1430D-DED1-4C2F-834B-CA4B49C6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8733C-D85E-4819-82CC-C5049241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E85-0511-46B4-AC64-F5262475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5DE79-D196-43C3-A172-7BDCC396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60165-498A-4B8D-86BE-8501298D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BECF0-6A2B-4850-9D51-94885F88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9D790-C49F-46FD-88D1-3DD6E4F0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981F1-0F2C-40FF-AB5C-557271FD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CB4A1-0718-4469-9BBF-68B2A207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CF638-D503-4FF1-984F-9800499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0272F-EEB4-475F-90E3-203A1B8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22EC9-4A68-437B-8DD5-EBB911C0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AECA3-2722-43D9-8816-19FB111C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065-1B2D-41CD-A3D9-ACABD52D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EE650-66B7-43B2-9841-41929B00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951354-DF75-46F8-B806-19C70583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4A9B14-B52A-4F2F-9758-326D63CA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A68103-DC04-4044-B0F8-CD4EA455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3E758D-9C09-4717-B974-79229B0E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5A5D97-20E2-43B4-8AC4-00F278C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A1F36D-9989-415F-91D8-6202EA49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DF3E31-5182-45F0-82F8-6D3C244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B8DA01-9506-4B61-997B-8A2312D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DDED2A-B211-4F63-9A4D-B8C3547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5577-C6C3-4BDD-B165-A41A60D2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32EA80-B013-4888-A540-68426BC5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6DA5B4-B210-45A7-BB4D-D1B4E9B1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2E2FDD-61BA-4357-BCFB-83AB851E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99805-3039-4782-B91C-A85D54AA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1F316-68C5-409E-B0D6-1000F92A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A5369-39EE-4749-BF65-16E02E9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B85CD-67AA-4D48-90A4-3964FECD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AAD23-97BD-41CE-8FCA-D44B0889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D7B51-236E-4513-9FE8-FDB8D566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7848D-59E3-4F1E-AD02-9766EFF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C281-323F-4445-8DF0-C71B9DE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1B022-CCEA-4881-955F-9FA8CA1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331BE-9781-4979-ACD7-DF031BBE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FC5E2-EFAA-4DF3-A9E8-65FB3C23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FA6A4-61F2-455D-B79B-99E50FE9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F40FA-9A83-4515-B5E6-8FB53CBD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DE1E32-4FC9-4BFC-B351-DF9B933A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77EF49-FCC7-4111-8FD7-E321F202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5F90D3-641B-4228-BB6D-E5FC635E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710F62-64F8-46FA-A104-F79B83AC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3D407C-8C85-4080-8D8C-0067002F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9C8A-2868-49B6-BA3A-C2F28E9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7D2A89-2DEF-4C8A-B31C-B4F28C3B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0C971F-86AA-4198-9BF7-041BEC30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D70F74-1BD0-45A4-A2DB-2EF41B8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3641BD-8D25-42D2-8C38-35EE322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77B3CD-38C3-4DE5-9E9A-904A8CF1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250FCD-F728-4F0C-A817-6FF51202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15A05A-D1E7-4153-B871-97F340BE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3B9FFA-0D6F-4F33-9A80-D11A3327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C7E708-8098-403E-943C-7F8FB2CC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282304-EB71-4017-901D-7A2E4773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EE8C-1494-4577-896F-EFAB0743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89976A-EB15-45B7-9162-D3BE006D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11EF44-6B3C-4F6C-B982-263DC066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12ED7E-AC82-46FD-AD2C-CEA57B81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4E7D0D-543C-485D-8247-8F312479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4B6083-E545-4EA7-BFAD-FBBDAB91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1B33F3-F6A1-4147-A69E-1B5D7EB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4BF165-F555-41DA-8E5B-B30B262D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88C7A9-D049-47D7-831B-32F6942D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1ACE6E-06D7-4CB1-8660-1A74AE24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5E74A0-7C04-476A-91EE-DE0FB16C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9E56-DDCB-44F7-ADA1-65DDDC6C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0C6117-C236-4CE2-8731-085C2425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FE84C1-485F-4881-AC56-B3BF936A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54C1E1-B42B-4BA9-97DD-EF6F2B3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30665A-2491-4B59-9139-757BB312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57E8B7-5468-4C9D-A7AD-B843F48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B67CEA-D532-4F3E-8215-9D08A69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8A991E-FCDE-4282-BE9D-008F50C4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391091-7E09-4F67-B1E1-68A7442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2C607A-218C-416C-BC29-17CAC93B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8BD43C-4B5F-487E-956E-750375C9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E9ED-135B-49D0-8C74-F6F7C7A4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F18744-A91C-478C-8CDD-65A96D2B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8306B8-DFCF-4E92-A6A5-FE776940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81ADDB-258A-48C4-A765-4E46B6ED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A6E9DC-CA12-4B34-915D-C3732EDB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4925A3-9C66-4CF8-8458-B3758882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520BC0-291E-4487-9DCA-61C98782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9ABCE3-D521-46E9-B3BA-28FF0EA4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471E74-91DB-439A-AB7D-21F77AAE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53BB37-B19E-4936-A18D-171A01E8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7F0A74D-B258-441D-B9CD-8ED5DFB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7493-175E-45C5-A8E1-0C10FECB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8E689E-5FF8-4CB5-AFB4-3CD25E7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C54862-F2E8-4B65-B1A6-6B1FEC4F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3A53D4-C3C6-42FD-BFB8-F9164C80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DED1B4-2504-4117-81BC-589A32E8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3409866-AC09-40AA-9BB5-AAD1CBBC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9AC4BF-9532-4AE7-A1CE-B1DE692B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D28307-ACDB-4BB4-8589-68D11AF6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51F15AE-63F9-4246-AE0F-E99846B4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547951-D952-46B7-B1D0-0C2AE22C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3AD1B5-6673-4BB5-B2D4-222FDB9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733-82CD-4680-A3B5-147C6988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C09B-5AC9-44F0-8853-E7D3B6A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52DAE0-5F79-443E-A395-45A1C137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D16829-00EF-400F-8BA9-EEE7F4B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369E48-CB49-41C9-8417-473CB8A6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27D2A3-70CA-4A4D-819F-ACD1241E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CF2616-2266-47B2-A1FD-E924F1D2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336663-5902-4218-9391-627E4288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C316C3-007C-4070-B694-FF7E6627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B023C5-00E9-42EB-A1A7-7F462B55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F1E1BB-7258-4BC4-8BAB-B7D822A2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ED37D2-F295-4CE7-9F39-966F35F0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F56D-35A7-41EE-BD90-DC9C833A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9E215ED-D746-408A-975D-3EC87187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FA1A09-3F4C-45DE-A66D-BE00080E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301468-9D47-4988-9F7A-FBA19C3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A92DE3-AFAD-4326-BFFA-891E07D8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DACA2D-B2E1-4EDA-A6ED-CB496C40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3A6883-3983-4257-B6B8-5D0E5EA0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C30AD3-6069-48E9-BA33-E7DE113B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9BBB45-C779-454F-BF0A-8D4A3871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29E288C-C0E2-4B7F-9867-F06E8430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55EA87-C427-4448-9350-EB3AFC16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F56A-7136-4019-B29C-A8C508B2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9BB64B-044D-4EFE-A35A-CF924BC0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878B9C-DD47-4269-8034-72E132B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CB4367-F1A0-4A89-A980-91098521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6A3EB1-6081-4944-B5DA-4253AB4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5DC31A-68EB-4D1B-B2A0-5A20A6BA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A9DE09-DDCF-4F6A-ACC8-1B98F426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DA12C7-DD96-4E38-B93E-61B3AB8E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1AF4F6D-322E-431B-9ED2-F3CFFDA2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924BCA-3F91-4119-AF55-7C29B364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E4DDF4-D893-4A95-9A91-83A3A2EE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0F9B-230B-491D-8812-CA8239BF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D7C879-D198-4AFF-95DA-794B104F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226214-58AF-4CF8-B497-5ECD3312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BB34B7-D7AF-4803-80D4-68C6E4FB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FC93DE-E938-41B2-9D44-73A7F3B2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0961360-8BDF-4ADE-800A-9078795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27A451-6AD4-484C-9A1D-141793FF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F13A19-D691-461C-8E5F-253BE3C0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056BF0-F161-4DCB-A452-E7CE5DD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6BD24FD-A245-4F95-B9D5-A1C980E6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4641EA-F2FF-41EB-885F-80FB1C43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551C-674A-42E4-B2A4-6E73D9A7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704A78-F20E-41D3-AA29-32EC86D8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2616-D2AB-4E9A-8444-B22D9549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2537A-D6BA-4FE6-86FA-073DA8AF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35E4-A5A1-41B7-82F1-B4F11413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202B-74D9-43F1-B1C1-7ACDA7E6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C2FE-0647-47A5-93D6-6DDD2B9D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DC9-C923-41A3-93FE-77BDC412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995F-51D2-4F30-9D98-851FB20B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5E783-822A-41CD-A286-C038935A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C618-CA64-4251-BD29-61836729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525D-1CF7-4F40-A89F-A6E840DA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E06D-8423-4276-989D-7359994A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4922-905E-42E2-A244-38DC6AE0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A03E-EC1F-4F7C-B790-E06345C9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E1C7-8785-49FA-AFDD-682B5AC6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B174-B8FE-4B7D-A009-0C027B58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FDBCB-60B6-490B-8269-41C4F3B1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7C0-7D83-412D-9F8C-B983C7C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589D8-B1C8-4358-9AF9-F61125C2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0D07-31C0-4999-B79F-3FA3FCC4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2EA9-FB2F-4E9C-80A0-78B94CFF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104B9-FF44-4E70-A7EE-CCB37314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C6F9-1DF6-4B63-B15D-BAE165F2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BC9BF-F833-43CB-9A52-17F78A6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4534-644C-44F3-9A33-E20AE97E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65ED-E299-4DCF-BF9F-4C8EFB9A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31772-4548-4E90-839F-C8AF4F45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3663-D8C6-45DC-BFDA-7D6E6EC2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28D-DC87-4CB1-9D5E-6E5306DD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07BD7-A568-4CB7-888F-35545A53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7161-08C5-4E94-954A-2F42D577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F630A-D403-483F-AD9A-9DF8441C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5376-D015-444B-9B69-FB8FB270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2C6E1-C460-43AF-9A64-363DCA58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AF2F-39EE-470E-B79B-D5FF052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B0ACB-D167-4644-979A-2A2AC4E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23A47-1D07-401F-85B5-F534AB8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12CF-D402-4DBF-8F5D-37887CFC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D6C8-4EFF-4C5F-A9DA-DF53EA4D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390-28A9-4E74-8364-8034C505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779F9-F9E3-4BFF-B252-F6B6C076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2F455-F5F0-4FD6-A54B-AFE4DE69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E0526-2E20-49E3-9A77-1FAA9042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FD18-1315-4B22-A411-C875029F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ECAA6-AA87-4F86-A127-B627737A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C87DF-B2F8-495A-857A-92DDF5A8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62C8-E1D9-4026-9BE4-61DCEB5E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41EF-0A2B-4719-B584-4220E629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A3C54-80D6-4E5E-BD5F-9ADEA3F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9C992-07EC-4D64-BE69-C3C93065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E31-B81C-4480-8937-9841841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FD779-D456-442A-83E0-5DAD90C8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3551F-C30E-4F21-8165-FD78CB6C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8977C-5A7E-40A9-9E09-4B6F7A4A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52A048-E9A7-43CC-BA91-E38320ECB73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C2AF37-68C1-4B95-B6F0-A2CD6E14CD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114E5C-0156-48F2-AC02-0A353AA69E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9F5F10-1BB4-4148-BF33-23C81F95FFC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E322F7-52C2-4580-9135-1BDA062F4F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A641F9-121C-4EA4-A04F-0FEC9234697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D0224B-91DB-4048-ACA4-AC1E8A841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EF4-4329-48B3-9F7F-DD5779BA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24E1C5-78F8-4324-AD35-15B09CE52A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6D6F41-3A14-489C-B3AD-987DE6C21C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BDE84B-278F-433F-946D-52CE97D257E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B68884-B725-4AC9-BAE2-B74374EC7C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D72FB8-F89A-4F06-8DAC-4C07D24D1DA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E9B483-7DBD-44CB-BDA4-B275A2CC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7EF303-C856-41DE-8706-833397EA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0C3B8F-691F-44AE-8EA4-093F9EF0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E2EE14-5FC2-4A0D-B732-01BC474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A11299-FFFF-4372-A0E3-02AC120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687-81A8-4FC0-83D5-7BC2BFB1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754461-E31A-4A4A-B5CB-86F68057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9837A3-046B-4508-99B1-58352C85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1834D1-5716-49B2-8CA1-6E0F4972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FA4CBA-E326-4F36-B9D0-9F8DD25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8B2B8-F413-416D-882B-825E2596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E2AFAE-6DBB-4589-BE09-BF28F1A6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A84BE1-74D0-4099-8F4A-4D47FD1C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AE3F5-6E28-4C3F-8A7F-25E56CF8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AE50B-E8F8-4668-9531-824BD78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8C593-953E-40EB-BF61-3208A8CE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C7C0-A863-49F9-A12D-2782D29F8B1A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F046-D269-4EF8-B7E0-CAC3E106C797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980A-1E93-496D-804C-D69B5DB659BE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9BE5-CB29-4B53-8989-6B1B397A4584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300F-8B98-46D0-BBE8-69224C244F37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2E98-AF6A-4A47-B64E-56B44C7C9011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1C01-CFC0-4B9E-8ECF-A555E404746A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4BEF-DD34-453D-BEF3-63B87886CF9F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C1CB-8F93-4D13-819C-CF936A84394E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9FA4-E328-4681-8E4A-23A40A8DB716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A600-BF30-4BA0-B65F-DB44909F3C33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DEED-6287-4C74-B03C-CC38585E3B30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49E9-1EB7-49F5-B055-FFDBA5F9FE61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6270-BCEB-48A7-96A6-0B97DF21D2DF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F281-CA17-4F1C-9541-1F868F2DF5AE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274D-926C-4A49-AA1D-3237B23E6A83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7EB8-A8C2-493A-AA12-83762217C59D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00A7-B30C-45DF-98B6-A932C51F0DF1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D91E-5214-4747-B656-AE2A12FEC752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87F3-2081-4558-B784-2AECBB4B76E3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69CA-A29C-4992-BFF6-AE90DF0CED84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D9C9-EB8F-428A-8847-54102F9B0A53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1F04-7C41-4D16-9298-54C7412FF549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0541-A74C-4EA5-AD69-1A7DD2A0207F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6C0-216D-48FF-BFD8-EA3AF0FC5722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4D1-3158-4170-BCE7-9926990978AC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1579-B60A-4CBE-875C-51F7B9D0EF7A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8FB3-66A7-4E7C-91DA-C34E86A2A6DB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6C7-049B-444B-982D-B5286F3E9D85}" type="datetime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F685-D9A0-4D36-A952-AC223E20653D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6286-F511-450E-92E8-DE3242C0A28D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451D-6441-45BB-A9AD-D53DA1F53722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13A4-1E97-4134-AA60-23BA53BCDD54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B50B-F56A-4C17-84CA-1F45796995B8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F186-EF3D-46DE-B633-354F3C6ED1A5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1D2F-2D0E-40FC-A301-64EC9798533F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BCE9-6C20-42E0-A8DE-5A27334FA339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6CE5-EE30-489B-B08A-58ECA780A63A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9297-555E-4E2C-B6CB-6D7203768BD0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Accounting for a Corporation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0" name="TextBox 4"/>
          <p:cNvSpPr/>
          <p:nvPr/>
        </p:nvSpPr>
        <p:spPr>
          <a:xfrm>
            <a:off x="457200" y="1828800"/>
            <a:ext cx="84582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.) Different Accounts are used to record owner’s equit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2.) Different procedures are used to distribute income to own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3.) Must calculate and pay federal income tax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 Proprietorship and Partnership net income is part of the owner’s personal inco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entury Gothic"/>
              </a:rPr>
              <a:t>STOCKHOLDERS’ EQUITY ACCOUNTS USED BY A CORPORATION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42" name="Picture 4" descr="D:\C21 PowerPoint\Multi_Journal\art for blue\Ch25\Ch25-01a.jpg"/>
          <p:cNvPicPr/>
          <p:nvPr/>
        </p:nvPicPr>
        <p:blipFill>
          <a:blip r:embed="rId1"/>
          <a:srcRect l="41856" t="0" r="0" b="87212"/>
          <a:stretch/>
        </p:blipFill>
        <p:spPr>
          <a:xfrm>
            <a:off x="457200" y="2209680"/>
            <a:ext cx="8229600" cy="284328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1, page 6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Vocabulary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5" name="TextBox 2"/>
          <p:cNvSpPr/>
          <p:nvPr/>
        </p:nvSpPr>
        <p:spPr>
          <a:xfrm>
            <a:off x="457200" y="2057400"/>
            <a:ext cx="73152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tockholder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ivide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eclaring a Divide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508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CLARING A DIVIDEND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Text Box 4"/>
          <p:cNvSpPr/>
          <p:nvPr/>
        </p:nvSpPr>
        <p:spPr>
          <a:xfrm>
            <a:off x="457200" y="9144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5. Winning Edge’s board of directors declared a quarterly dividend of $1.00 per share; capital stock issued is 10,000 shares; total dividend, $10,000.00. Date of payment is January 15. Memorandum No. 18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457200" y="2230560"/>
            <a:ext cx="281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nd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7373880" y="222408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5697360" y="223056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2971800" y="2230560"/>
            <a:ext cx="234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holder’s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9"/>
          <p:cNvSpPr/>
          <p:nvPr/>
        </p:nvSpPr>
        <p:spPr>
          <a:xfrm>
            <a:off x="5195880" y="3701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152280" y="3701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1663200" y="50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Group 53"/>
          <p:cNvGrpSpPr/>
          <p:nvPr/>
        </p:nvGrpSpPr>
        <p:grpSpPr>
          <a:xfrm>
            <a:off x="-76320" y="3247560"/>
            <a:ext cx="9220320" cy="2314800"/>
            <a:chOff x="-76320" y="3247560"/>
            <a:chExt cx="9220320" cy="2314800"/>
          </a:xfrm>
        </p:grpSpPr>
        <p:grpSp>
          <p:nvGrpSpPr>
            <p:cNvPr id="856" name="Group 52"/>
            <p:cNvGrpSpPr/>
            <p:nvPr/>
          </p:nvGrpSpPr>
          <p:grpSpPr>
            <a:xfrm>
              <a:off x="3962520" y="3247560"/>
              <a:ext cx="5181480" cy="2314800"/>
              <a:chOff x="3962520" y="3247560"/>
              <a:chExt cx="5181480" cy="2314800"/>
            </a:xfrm>
          </p:grpSpPr>
          <p:sp>
            <p:nvSpPr>
              <p:cNvPr id="857" name="Text Box 21"/>
              <p:cNvSpPr/>
              <p:nvPr/>
            </p:nvSpPr>
            <p:spPr>
              <a:xfrm>
                <a:off x="3962520" y="3970080"/>
                <a:ext cx="51814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336760"/>
                    <a:tab algn="dec" pos="4008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4/15 Paid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     3/15 Decl.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336760"/>
                    <a:tab algn="dec" pos="4008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7/15 Paid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     6/15 Decl.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336760"/>
                    <a:tab algn="dec" pos="4008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/15 Paid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     9/15 Decl.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Arial"/>
                  </a:rPr>
                  <a:t>10,000.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Group 45"/>
              <p:cNvGrpSpPr/>
              <p:nvPr/>
            </p:nvGrpSpPr>
            <p:grpSpPr>
              <a:xfrm>
                <a:off x="4510080" y="3247560"/>
                <a:ext cx="4481640" cy="2314800"/>
                <a:chOff x="4510080" y="3247560"/>
                <a:chExt cx="4481640" cy="2314800"/>
              </a:xfrm>
            </p:grpSpPr>
            <p:sp>
              <p:nvSpPr>
                <p:cNvPr id="859" name="Text Box 23"/>
                <p:cNvSpPr/>
                <p:nvPr/>
              </p:nvSpPr>
              <p:spPr>
                <a:xfrm>
                  <a:off x="5695560" y="3247560"/>
                  <a:ext cx="206748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vidends Pay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0" name="Group 44"/>
                <p:cNvGrpSpPr/>
                <p:nvPr/>
              </p:nvGrpSpPr>
              <p:grpSpPr>
                <a:xfrm>
                  <a:off x="4510080" y="3733560"/>
                  <a:ext cx="4481640" cy="1828800"/>
                  <a:chOff x="4510080" y="3733560"/>
                  <a:chExt cx="4481640" cy="1828800"/>
                </a:xfrm>
              </p:grpSpPr>
              <p:sp>
                <p:nvSpPr>
                  <p:cNvPr id="861" name="Line 25"/>
                  <p:cNvSpPr/>
                  <p:nvPr/>
                </p:nvSpPr>
                <p:spPr>
                  <a:xfrm>
                    <a:off x="4510080" y="3733560"/>
                    <a:ext cx="448164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Line 26"/>
                  <p:cNvSpPr/>
                  <p:nvPr/>
                </p:nvSpPr>
                <p:spPr>
                  <a:xfrm>
                    <a:off x="6751800" y="3733560"/>
                    <a:ext cx="0" cy="182880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63" name="Group 50"/>
            <p:cNvGrpSpPr/>
            <p:nvPr/>
          </p:nvGrpSpPr>
          <p:grpSpPr>
            <a:xfrm>
              <a:off x="-76320" y="3247560"/>
              <a:ext cx="4426200" cy="2314800"/>
              <a:chOff x="-76320" y="3247560"/>
              <a:chExt cx="4426200" cy="2314800"/>
            </a:xfrm>
          </p:grpSpPr>
          <p:sp>
            <p:nvSpPr>
              <p:cNvPr id="864" name="Text Box 11"/>
              <p:cNvSpPr/>
              <p:nvPr/>
            </p:nvSpPr>
            <p:spPr>
              <a:xfrm>
                <a:off x="-76320" y="3987720"/>
                <a:ext cx="4197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654200"/>
                    <a:tab algn="l" pos="2174760"/>
                    <a:tab algn="dec" pos="366552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3/15 Decl.      10,000.0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54200"/>
                    <a:tab algn="l" pos="2174760"/>
                    <a:tab algn="dec" pos="366552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6/15 Decl.      10,000.0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654200"/>
                    <a:tab algn="l" pos="2174760"/>
                    <a:tab algn="dec" pos="366552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9/15 Decl.      10,000.00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5" name="Group 43"/>
              <p:cNvGrpSpPr/>
              <p:nvPr/>
            </p:nvGrpSpPr>
            <p:grpSpPr>
              <a:xfrm>
                <a:off x="198360" y="3247560"/>
                <a:ext cx="4151520" cy="2314800"/>
                <a:chOff x="198360" y="3247560"/>
                <a:chExt cx="4151520" cy="2314800"/>
              </a:xfrm>
            </p:grpSpPr>
            <p:sp>
              <p:nvSpPr>
                <p:cNvPr id="866" name="Text Box 30"/>
                <p:cNvSpPr/>
                <p:nvPr/>
              </p:nvSpPr>
              <p:spPr>
                <a:xfrm>
                  <a:off x="1511640" y="3247560"/>
                  <a:ext cx="118044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ividend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7" name="Group 42"/>
                <p:cNvGrpSpPr/>
                <p:nvPr/>
              </p:nvGrpSpPr>
              <p:grpSpPr>
                <a:xfrm>
                  <a:off x="198360" y="3733560"/>
                  <a:ext cx="4151520" cy="1828800"/>
                  <a:chOff x="198360" y="3733560"/>
                  <a:chExt cx="4151520" cy="1828800"/>
                </a:xfrm>
              </p:grpSpPr>
              <p:sp>
                <p:nvSpPr>
                  <p:cNvPr id="868" name="Line 32"/>
                  <p:cNvSpPr/>
                  <p:nvPr/>
                </p:nvSpPr>
                <p:spPr>
                  <a:xfrm>
                    <a:off x="198360" y="3733560"/>
                    <a:ext cx="4151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Line 33"/>
                  <p:cNvSpPr/>
                  <p:nvPr/>
                </p:nvSpPr>
                <p:spPr>
                  <a:xfrm>
                    <a:off x="2274840" y="3733560"/>
                    <a:ext cx="0" cy="182880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70" name="Rectangle 47"/>
          <p:cNvSpPr/>
          <p:nvPr/>
        </p:nvSpPr>
        <p:spPr>
          <a:xfrm>
            <a:off x="6844680" y="50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8"/>
          <p:cNvSpPr/>
          <p:nvPr/>
        </p:nvSpPr>
        <p:spPr>
          <a:xfrm>
            <a:off x="-6480" y="4572000"/>
            <a:ext cx="41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2174760"/>
                <a:tab algn="dec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/15 Decl.  10,000.0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9"/>
          <p:cNvSpPr/>
          <p:nvPr/>
        </p:nvSpPr>
        <p:spPr>
          <a:xfrm>
            <a:off x="4419720" y="47242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941480"/>
                <a:tab algn="l" pos="2336760"/>
                <a:tab algn="dec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/15 Decl.  10,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Box 29"/>
          <p:cNvSpPr/>
          <p:nvPr/>
        </p:nvSpPr>
        <p:spPr>
          <a:xfrm>
            <a:off x="1538280" y="5486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30"/>
          <p:cNvSpPr/>
          <p:nvPr/>
        </p:nvSpPr>
        <p:spPr>
          <a:xfrm>
            <a:off x="457200" y="6129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of Shar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arterly Dividend = T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3960" y="1980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CLARING A DIVIDEND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76" name="Picture 4" descr="D:\C21 PowerPoint\Multi_Journal\art for blue\Ch25\Ch25-01b.jpg"/>
          <p:cNvPicPr/>
          <p:nvPr/>
        </p:nvPicPr>
        <p:blipFill>
          <a:blip r:embed="rId1"/>
          <a:srcRect l="18193" t="0" r="0" b="86818"/>
          <a:stretch/>
        </p:blipFill>
        <p:spPr>
          <a:xfrm>
            <a:off x="384120" y="2209680"/>
            <a:ext cx="8229600" cy="183060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7"/>
          <p:cNvSpPr/>
          <p:nvPr/>
        </p:nvSpPr>
        <p:spPr>
          <a:xfrm>
            <a:off x="51120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8"/>
          <p:cNvSpPr/>
          <p:nvPr/>
        </p:nvSpPr>
        <p:spPr>
          <a:xfrm>
            <a:off x="511200" y="47847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Dividends Pay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Group 12"/>
          <p:cNvGrpSpPr/>
          <p:nvPr/>
        </p:nvGrpSpPr>
        <p:grpSpPr>
          <a:xfrm>
            <a:off x="5864400" y="1981080"/>
            <a:ext cx="533160" cy="1295280"/>
            <a:chOff x="5864400" y="1981080"/>
            <a:chExt cx="533160" cy="1295280"/>
          </a:xfrm>
        </p:grpSpPr>
        <p:sp>
          <p:nvSpPr>
            <p:cNvPr id="880" name="Line 10"/>
            <p:cNvSpPr/>
            <p:nvPr/>
          </p:nvSpPr>
          <p:spPr>
            <a:xfrm>
              <a:off x="6145200" y="2209680"/>
              <a:ext cx="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5"/>
            <p:cNvSpPr/>
            <p:nvPr/>
          </p:nvSpPr>
          <p:spPr>
            <a:xfrm>
              <a:off x="5864400" y="19810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13"/>
          <p:cNvGrpSpPr/>
          <p:nvPr/>
        </p:nvGrpSpPr>
        <p:grpSpPr>
          <a:xfrm>
            <a:off x="7921800" y="2209680"/>
            <a:ext cx="533160" cy="1371600"/>
            <a:chOff x="7921800" y="2209680"/>
            <a:chExt cx="533160" cy="1371600"/>
          </a:xfrm>
        </p:grpSpPr>
        <p:sp>
          <p:nvSpPr>
            <p:cNvPr id="883" name="Line 11"/>
            <p:cNvSpPr/>
            <p:nvPr/>
          </p:nvSpPr>
          <p:spPr>
            <a:xfrm>
              <a:off x="8184960" y="2514600"/>
              <a:ext cx="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6"/>
            <p:cNvSpPr/>
            <p:nvPr/>
          </p:nvSpPr>
          <p:spPr>
            <a:xfrm>
              <a:off x="7921800" y="22096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Text Box 14"/>
          <p:cNvSpPr/>
          <p:nvPr/>
        </p:nvSpPr>
        <p:spPr>
          <a:xfrm>
            <a:off x="7341120" y="72381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1, page 6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457200" y="685800"/>
            <a:ext cx="650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PAYING A DIVID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42"/>
          <p:cNvGrpSpPr/>
          <p:nvPr/>
        </p:nvGrpSpPr>
        <p:grpSpPr>
          <a:xfrm>
            <a:off x="198360" y="3247560"/>
            <a:ext cx="8793360" cy="2315160"/>
            <a:chOff x="198360" y="3247560"/>
            <a:chExt cx="8793360" cy="2315160"/>
          </a:xfrm>
        </p:grpSpPr>
        <p:grpSp>
          <p:nvGrpSpPr>
            <p:cNvPr id="888" name="Group 39"/>
            <p:cNvGrpSpPr/>
            <p:nvPr/>
          </p:nvGrpSpPr>
          <p:grpSpPr>
            <a:xfrm>
              <a:off x="304920" y="3247560"/>
              <a:ext cx="8686800" cy="2315160"/>
              <a:chOff x="304920" y="3247560"/>
              <a:chExt cx="8686800" cy="2315160"/>
            </a:xfrm>
          </p:grpSpPr>
          <p:sp>
            <p:nvSpPr>
              <p:cNvPr id="889" name="Text Box 14"/>
              <p:cNvSpPr/>
              <p:nvPr/>
            </p:nvSpPr>
            <p:spPr>
              <a:xfrm>
                <a:off x="304920" y="4038480"/>
                <a:ext cx="51814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282760"/>
                    <a:tab algn="dec" pos="41148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4/15 Paid         10,000.00 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 3/15 Decl.          10,00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282760"/>
                    <a:tab algn="dec" pos="41148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7/15 Paid         10,000.00 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 6/15 Decl.          10,00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282760"/>
                    <a:tab algn="dec" pos="41148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10/15 Paid       10,000.00 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 9/15 Decl.          10,00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dec" pos="1833480"/>
                    <a:tab algn="l" pos="2282760"/>
                    <a:tab algn="dec" pos="41148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	</a:t>
                </a:r>
                <a:r>
                  <a:rPr b="0" lang="en-US" sz="1300" spc="-1" strike="noStrike">
                    <a:solidFill>
                      <a:srgbClr val="003399"/>
                    </a:solidFill>
                    <a:latin typeface="Arial"/>
                  </a:rPr>
                  <a:t>12/15 Decl.         10,00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0" name="Group 38"/>
              <p:cNvGrpSpPr/>
              <p:nvPr/>
            </p:nvGrpSpPr>
            <p:grpSpPr>
              <a:xfrm>
                <a:off x="5029200" y="3247560"/>
                <a:ext cx="3962520" cy="2315160"/>
                <a:chOff x="5029200" y="3247560"/>
                <a:chExt cx="3962520" cy="2315160"/>
              </a:xfrm>
            </p:grpSpPr>
            <p:sp>
              <p:nvSpPr>
                <p:cNvPr id="891" name="Text Box 16"/>
                <p:cNvSpPr/>
                <p:nvPr/>
              </p:nvSpPr>
              <p:spPr>
                <a:xfrm>
                  <a:off x="6625440" y="3247560"/>
                  <a:ext cx="71244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as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2" name="Group 36"/>
                <p:cNvGrpSpPr/>
                <p:nvPr/>
              </p:nvGrpSpPr>
              <p:grpSpPr>
                <a:xfrm>
                  <a:off x="5029200" y="3733920"/>
                  <a:ext cx="3962520" cy="1828800"/>
                  <a:chOff x="5029200" y="3733920"/>
                  <a:chExt cx="3962520" cy="1828800"/>
                </a:xfrm>
              </p:grpSpPr>
              <p:sp>
                <p:nvSpPr>
                  <p:cNvPr id="893" name="Line 18"/>
                  <p:cNvSpPr/>
                  <p:nvPr/>
                </p:nvSpPr>
                <p:spPr>
                  <a:xfrm>
                    <a:off x="5029200" y="3733920"/>
                    <a:ext cx="3962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Line 19"/>
                  <p:cNvSpPr/>
                  <p:nvPr/>
                </p:nvSpPr>
                <p:spPr>
                  <a:xfrm>
                    <a:off x="7011000" y="3733920"/>
                    <a:ext cx="0" cy="182880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5" name="Group 41"/>
            <p:cNvGrpSpPr/>
            <p:nvPr/>
          </p:nvGrpSpPr>
          <p:grpSpPr>
            <a:xfrm>
              <a:off x="198360" y="3247560"/>
              <a:ext cx="4602240" cy="2315160"/>
              <a:chOff x="198360" y="3247560"/>
              <a:chExt cx="4602240" cy="2315160"/>
            </a:xfrm>
          </p:grpSpPr>
          <p:sp>
            <p:nvSpPr>
              <p:cNvPr id="896" name="Text Box 23"/>
              <p:cNvSpPr/>
              <p:nvPr/>
            </p:nvSpPr>
            <p:spPr>
              <a:xfrm>
                <a:off x="1444320" y="3247560"/>
                <a:ext cx="2067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vidends Pay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7" name="Group 40"/>
              <p:cNvGrpSpPr/>
              <p:nvPr/>
            </p:nvGrpSpPr>
            <p:grpSpPr>
              <a:xfrm>
                <a:off x="198360" y="3733920"/>
                <a:ext cx="4602240" cy="1828800"/>
                <a:chOff x="198360" y="3733920"/>
                <a:chExt cx="4602240" cy="1828800"/>
              </a:xfrm>
            </p:grpSpPr>
            <p:sp>
              <p:nvSpPr>
                <p:cNvPr id="898" name="Line 25"/>
                <p:cNvSpPr/>
                <p:nvPr/>
              </p:nvSpPr>
              <p:spPr>
                <a:xfrm>
                  <a:off x="198360" y="3733920"/>
                  <a:ext cx="460224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Line 26"/>
                <p:cNvSpPr/>
                <p:nvPr/>
              </p:nvSpPr>
              <p:spPr>
                <a:xfrm>
                  <a:off x="2500200" y="373392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508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PAYING A DIVIDEND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57200" y="9144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15. Paid cash for quarterly dividend declared December 15, $10,000.00. Check No. 87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457200" y="1911240"/>
            <a:ext cx="2819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nd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6553080" y="1905120"/>
            <a:ext cx="1295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4876920" y="191124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2971800" y="191124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5195880" y="3701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9"/>
          <p:cNvSpPr/>
          <p:nvPr/>
        </p:nvSpPr>
        <p:spPr>
          <a:xfrm>
            <a:off x="152280" y="3701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0"/>
          <p:cNvSpPr/>
          <p:nvPr/>
        </p:nvSpPr>
        <p:spPr>
          <a:xfrm flipV="1">
            <a:off x="1662840" y="5073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1, page 6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7"/>
          <p:cNvSpPr/>
          <p:nvPr/>
        </p:nvSpPr>
        <p:spPr>
          <a:xfrm flipV="1">
            <a:off x="7149240" y="5073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28"/>
          <p:cNvSpPr/>
          <p:nvPr/>
        </p:nvSpPr>
        <p:spPr>
          <a:xfrm>
            <a:off x="4946760" y="3929040"/>
            <a:ext cx="41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2174760"/>
                <a:tab algn="dec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5 Paid        10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29"/>
          <p:cNvSpPr/>
          <p:nvPr/>
        </p:nvSpPr>
        <p:spPr>
          <a:xfrm>
            <a:off x="380880" y="4724280"/>
            <a:ext cx="4343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833480"/>
                <a:tab algn="l" pos="2336760"/>
                <a:tab algn="dec" pos="4008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/15 Paid        10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2120" y="1980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PAYING A DIVIDEND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914" name="Picture 4" descr="D:\C21 PowerPoint\Multi_Journal\art for blue\Ch25\Ch25-01c.jpg"/>
          <p:cNvPicPr/>
          <p:nvPr/>
        </p:nvPicPr>
        <p:blipFill>
          <a:blip r:embed="rId1"/>
          <a:srcRect l="0" t="0" r="0" b="87157"/>
          <a:stretch/>
        </p:blipFill>
        <p:spPr>
          <a:xfrm>
            <a:off x="457200" y="2209680"/>
            <a:ext cx="8305920" cy="1278000"/>
          </a:xfrm>
          <a:prstGeom prst="rect">
            <a:avLst/>
          </a:prstGeom>
          <a:ln w="0">
            <a:noFill/>
          </a:ln>
        </p:spPr>
      </p:pic>
      <p:sp>
        <p:nvSpPr>
          <p:cNvPr id="915" name="Oval 5"/>
          <p:cNvSpPr/>
          <p:nvPr/>
        </p:nvSpPr>
        <p:spPr>
          <a:xfrm>
            <a:off x="4378320" y="32767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"/>
          <p:cNvSpPr/>
          <p:nvPr/>
        </p:nvSpPr>
        <p:spPr>
          <a:xfrm>
            <a:off x="7883640" y="32767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7"/>
          <p:cNvSpPr/>
          <p:nvPr/>
        </p:nvSpPr>
        <p:spPr>
          <a:xfrm>
            <a:off x="644400" y="367344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Dividends Pay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8"/>
          <p:cNvSpPr/>
          <p:nvPr/>
        </p:nvSpPr>
        <p:spPr>
          <a:xfrm>
            <a:off x="644400" y="403848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9"/>
          <p:cNvSpPr/>
          <p:nvPr/>
        </p:nvSpPr>
        <p:spPr>
          <a:xfrm>
            <a:off x="7379280" y="72381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1, page 6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Box 8"/>
          <p:cNvSpPr/>
          <p:nvPr/>
        </p:nvSpPr>
        <p:spPr>
          <a:xfrm>
            <a:off x="685800" y="762120"/>
            <a:ext cx="7093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Journalizing Dividends Pay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9:05:32Z</dcterms:created>
  <dc:creator>Mary Colleen McLaughlin</dc:creator>
  <dc:description/>
  <dc:language>en-US</dc:language>
  <cp:lastModifiedBy>David Combs</cp:lastModifiedBy>
  <cp:lastPrinted>1999-04-10T04:56:01Z</cp:lastPrinted>
  <dcterms:modified xsi:type="dcterms:W3CDTF">2011-12-13T13:33:48Z</dcterms:modified>
  <cp:revision>82</cp:revision>
  <dc:subject/>
  <dc:title>ADJUSTING ENTRY FOR SUPPLIES</dc:title>
</cp:coreProperties>
</file>